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3A6-C112-4570-8055-E479F2EA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9C0-5576-4B42-ACEF-98E974E3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A07E-2A67-4712-98A2-5A495721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CA1-023E-493E-863D-9BE7CC0F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5A3A-EB8E-4530-81AA-1931051E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0F9E-D29D-4CEB-8839-93A2BB9E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958A-8014-4229-9005-0C805EB8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3EC6-2FFF-4F29-B9B2-6E1628F6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987E-59F0-438C-9707-47605CDF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4C44-AC8E-427F-B490-4821CAD0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BFAD-A1A8-4705-8B1C-FCE211A1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F9A-FF26-4112-A068-3004BB96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300B-6F79-4CE6-B1AC-0C11C987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281F-5135-4301-BCA4-4DAC6ED0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9CA5-D537-4184-8EA3-C315EBFA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5C2E-DE85-4435-B6FC-0A686843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CB85-0D5A-486A-A0EA-8A02EA43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A5C00-003E-4347-B15B-A73D8659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D7430-20FA-466D-98B6-03A41668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F556F-4C99-4518-A5B8-6A3B0A2B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0A0DD-D94D-464E-A3FA-8AA53AAE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F35ED-D371-49CD-8134-8F677F72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98E-6321-4A06-939B-2BBD3A4D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1BD6B-33F2-4259-89F9-960444DB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450B6-CDBB-4DCC-88A1-80F68DDA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B8C26-EA5A-4271-A556-9A2DDF72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9B71E-4D6D-47E7-B4DD-5AE1DC48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30BF4-2E71-4706-826E-5904DF4E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68814-757F-4A2D-9F8C-59177C29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593D0-AAF3-46DD-81FE-5A41C0F7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913D5-11C7-438B-940A-E3B1BB5B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BAFCC-53FD-44E3-A37B-C4615277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BF5C7-71F7-41D4-A829-F241E300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BB9-DB84-4C57-8419-1F0E8841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B6DCA-F338-4EFD-BDA2-4624A194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73C97-8DE5-4972-AA7E-D5BF6AB4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1E54C-287E-4480-85BB-F039BEA1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DA706-9670-49FF-BC76-5266B317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482F5-45F8-407D-A2CC-B81F276F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B2B75-49D6-407D-8BFF-346D96C7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14869-63FC-4B74-A653-01CDDB24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DBE78-8443-4134-86CB-9DE72D1B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92268-9276-48A6-A19E-118E947A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BF8E8-2DEB-4650-9672-F7E2AA6F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C34-054C-4E42-BD3C-87B324B5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5F6BF-169D-4F2D-BC62-2E70FF59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C78AF-8B7B-434E-BD48-D7EA216D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56073-70B5-40CD-8F67-6AA54A7E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F835B-9760-423F-A0D6-FDB80F03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75C3A-9D0C-4A7A-911B-2598E0E6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9F1E2-6817-4E26-B54C-CB9C7A44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6F38E-E3FD-4282-BB5C-A80DBEF1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A4831-373F-440A-960B-8662678A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E196D-5370-4257-9A3B-5CAA0D01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D0F73-70FA-4090-8F59-1ABB552D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24A2-E762-402F-B45C-64EF856B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04118-36D2-4EAC-A248-1FD39762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B88-52D8-4A15-BE1D-3CCEDBF9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DCF-C413-450D-AAB2-2EA503DF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18D5-1D2D-433E-8161-AFAA3010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3F6B-1031-49C5-A5C5-77A32AF467F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48B7-9C55-40C6-8EA5-77058C97DB1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03DD-1B79-4630-9AF5-CC79FAAB73D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F128-0541-4333-ADD5-B4B779304FB0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003C-F013-418C-890C-5E0A1794ED9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3200400" cy="3075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5826240" cy="16462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ПОРТРЕТ ВЫПУСКНИКА ДЕТСКОГО САДА В СООТВЕТСТВИИ С ФГОС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447560" y="52844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434342"/>
              </a:solidFill>
              <a:latin typeface="Constantia"/>
              <a:ea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990720" y="456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3204"/>
                </a:solidFill>
                <a:latin typeface="Constantia"/>
              </a:rPr>
              <a:t>                  </a:t>
            </a:r>
            <a:r>
              <a:rPr b="1" lang="ru-RU" sz="2800" spc="-1" strike="noStrike">
                <a:solidFill>
                  <a:srgbClr val="863204"/>
                </a:solidFill>
                <a:latin typeface="Times New Roman"/>
                <a:ea typeface="Times New Roman"/>
              </a:rPr>
              <a:t>МОДЕЛЬ ВЫПУСКНИКА - предполагаемый результат совместной деятельности детского сада и семьи, характеризующий их представления о наиболее важных качествах личности ребенка, которыми должен обладать выпускник дошкольного образовательного  учреждения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9" name="Picture 4" descr="MCj03466450000[1]"/>
          <p:cNvPicPr/>
          <p:nvPr/>
        </p:nvPicPr>
        <p:blipFill>
          <a:blip r:embed="rId1"/>
          <a:stretch/>
        </p:blipFill>
        <p:spPr>
          <a:xfrm>
            <a:off x="6019920" y="3541680"/>
            <a:ext cx="2452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040" y="380520"/>
            <a:ext cx="7931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3204"/>
                </a:solidFill>
                <a:latin typeface="Constantia"/>
              </a:rPr>
              <a:t>МОДЕЛЬ ВЫПУСКНИКА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3204"/>
                </a:solidFill>
                <a:latin typeface="Times New Roman"/>
                <a:ea typeface="Times New Roman"/>
              </a:rPr>
              <a:t>имеет большое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3204"/>
                </a:solidFill>
                <a:latin typeface="Times New Roman"/>
                <a:ea typeface="Times New Roman"/>
              </a:rPr>
              <a:t>значение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3204"/>
                </a:solidFill>
                <a:latin typeface="Times New Roman"/>
                <a:ea typeface="Times New Roman"/>
              </a:rPr>
              <a:t>1. Она выполняет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грирующую роль </a:t>
            </a:r>
            <a:r>
              <a:rPr b="1" lang="ru-RU" sz="2400" spc="-1" strike="noStrike">
                <a:solidFill>
                  <a:srgbClr val="863204"/>
                </a:solidFill>
                <a:latin typeface="Times New Roman"/>
                <a:ea typeface="Times New Roman"/>
              </a:rPr>
              <a:t>по отношению к другим составляющим образам дошкольного учреждения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3204"/>
                </a:solidFill>
                <a:latin typeface="Times New Roman"/>
                <a:ea typeface="Times New Roman"/>
              </a:rPr>
              <a:t>2.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ой для разработки целевых ориентиров</a:t>
            </a:r>
            <a:r>
              <a:rPr b="1" lang="ru-RU" sz="2400" spc="-1" strike="noStrike">
                <a:solidFill>
                  <a:srgbClr val="863204"/>
                </a:solidFill>
                <a:latin typeface="Times New Roman"/>
                <a:ea typeface="Times New Roman"/>
              </a:rPr>
              <a:t> воспитательно-образовательного процесса, позволяющих максимально учитывать особенности окружающей среды, специфику учреждения, своеобразие педагогического коллектива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3204"/>
                </a:solidFill>
                <a:latin typeface="Times New Roman"/>
                <a:ea typeface="Times New Roman"/>
              </a:rPr>
              <a:t>3. Модель выпускника выступает в качестве основного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я эффективности воспитательно-образовательного процесса,</a:t>
            </a:r>
            <a:r>
              <a:rPr b="1" lang="ru-RU" sz="2400" spc="-1" strike="noStrike">
                <a:solidFill>
                  <a:srgbClr val="863204"/>
                </a:solidFill>
                <a:latin typeface="Times New Roman"/>
                <a:ea typeface="Times New Roman"/>
              </a:rPr>
              <a:t> благодаря которому можно соотнести полученные результаты с мнением педагогов, медицинских работников ДОУ и родителей о желаемых результатах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4920" y="2437920"/>
            <a:ext cx="6348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3204"/>
                </a:solidFill>
                <a:latin typeface="Constantia"/>
              </a:rPr>
              <a:t>КАКОВ ЖЕ ДЛЯ НАС ВАШ РЕБЕНОК-ВЫПУСКНИК УЧРЕЖДЕНИЯ ДОШКОЛЬНОГО ОБРАЗОВАНИЯ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380880" y="18900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Физически развит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 ребенка сформированы основные физические качества и потребность в двигательной активности, соблюдает элементарные прав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дорового образа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https://i.mycdn.me/i?r=AzEPZsRbOZEKgBhR0XGMT1RkM4VjRsES4ECDL4WJiMkbyqaKTM5SRkZCeTgDn6uOyic"/>
          <p:cNvPicPr/>
          <p:nvPr/>
        </p:nvPicPr>
        <p:blipFill>
          <a:blip r:embed="rId1"/>
          <a:stretch/>
        </p:blipFill>
        <p:spPr>
          <a:xfrm>
            <a:off x="990720" y="2892600"/>
            <a:ext cx="3276360" cy="327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https://i.mycdn.me/i?r=AzEPZsRbOZEKgBhR0XGMT1RkC-id3qNR7re2xWHGA48XzqaKTM5SRkZCeTgDn6uOyic"/>
          <p:cNvPicPr/>
          <p:nvPr/>
        </p:nvPicPr>
        <p:blipFill>
          <a:blip r:embed="rId2"/>
          <a:stretch/>
        </p:blipFill>
        <p:spPr>
          <a:xfrm>
            <a:off x="5029200" y="29113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ttps://i.mycdn.me/i?r=AyH4iRPQ2q0otWIFepML2LxRArVajnKlV-ruI1sIDUcBWw"/>
          <p:cNvPicPr/>
          <p:nvPr/>
        </p:nvPicPr>
        <p:blipFill>
          <a:blip r:embed="rId1"/>
          <a:stretch/>
        </p:blipFill>
        <p:spPr>
          <a:xfrm>
            <a:off x="228600" y="304920"/>
            <a:ext cx="4165560" cy="3124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E:\фьюджи последний\диск д\сайт\банк фото\3кл\DSC_0292.jpg"/>
          <p:cNvPicPr/>
          <p:nvPr/>
        </p:nvPicPr>
        <p:blipFill>
          <a:blip r:embed="rId2"/>
          <a:stretch/>
        </p:blipFill>
        <p:spPr>
          <a:xfrm>
            <a:off x="2971800" y="2514600"/>
            <a:ext cx="59119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228600" y="303120"/>
            <a:ext cx="8534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знательный, активный, эмоционально отзывчивый, интересуется новым, неизвестным в окружающе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ет вопросы взрослому, любит экспериментиро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ен самостоятельно действ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повседневной жизни, в различных видах детской деятельност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ях затруднений обращается 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к взросл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ет жив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н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образователь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https://avatars.mds.yandex.net/get-pdb/1043578/acb75828-c17e-4a6c-958b-9f83c7bea589/s1200?webp=false"/>
          <p:cNvPicPr/>
          <p:nvPr/>
        </p:nvPicPr>
        <p:blipFill>
          <a:blip r:embed="rId1"/>
          <a:stretch/>
        </p:blipFill>
        <p:spPr>
          <a:xfrm>
            <a:off x="4952880" y="4199040"/>
            <a:ext cx="39960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Прямоугольник 1" descr=""/>
          <p:cNvPicPr/>
          <p:nvPr/>
        </p:nvPicPr>
        <p:blipFill>
          <a:blip r:embed="rId1"/>
          <a:stretch/>
        </p:blipFill>
        <p:spPr>
          <a:xfrm>
            <a:off x="291960" y="689040"/>
            <a:ext cx="84870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609480" y="312408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Школьное обучение никогда не начинается с пустого места, а всегда опирается на определенную стадию развития, проделанную ребёнком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 С. Выгод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" descr="https://snova-prazdnik.ru/wp-content/uploads/2016/12/viktorina_dety_01-1440x564_c.jpg"/>
          <p:cNvPicPr/>
          <p:nvPr/>
        </p:nvPicPr>
        <p:blipFill>
          <a:blip r:embed="rId1"/>
          <a:stretch/>
        </p:blipFill>
        <p:spPr>
          <a:xfrm>
            <a:off x="1447920" y="457200"/>
            <a:ext cx="593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msung</dc:creator>
  <dc:description/>
  <dc:language>en-US</dc:language>
  <cp:lastModifiedBy>Пользователь</cp:lastModifiedBy>
  <dcterms:modified xsi:type="dcterms:W3CDTF">2019-10-07T18:16:32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